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5C8-99D2-449C-9F27-C4E44A1A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67E-33F9-45FD-BE64-CC0D527A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5CD2-16D5-4E72-9DBF-D3F31E81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82C-0747-4E88-B200-C9A52ED9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DFF-240C-4910-ABAE-E8D6CA6F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794-59E8-4E57-B7D7-1A0C3918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F2A-65ED-4170-9E18-DC2FFFAF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B90-F360-444F-B35B-9DCB5AF5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B83-3FD0-42D6-992D-7E9E3596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77D-DC82-4C49-97CD-35D578A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B3C8-A08B-4945-BE18-B7FCC7BC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5AAC-2D03-4AD9-B858-41340298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311460-6962-4E89-8175-5721B0EE6E5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7160" y="8672400"/>
            <a:ext cx="3735360" cy="914400"/>
          </a:xfrm>
          <a:prstGeom prst="rect">
            <a:avLst/>
          </a:prstGeom>
          <a:solidFill>
            <a:srgbClr val="bcbcb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24480" y="8763120"/>
            <a:ext cx="1219320" cy="1136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67080" y="9372600"/>
            <a:ext cx="2590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500" spc="-1" strike="noStrike">
                <a:solidFill>
                  <a:srgbClr val="1e0098"/>
                </a:solidFill>
                <a:latin typeface="Trebuchet MS"/>
              </a:rPr>
              <a:t>Sponsored 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2839" t="11473" r="16796" b="12823"/>
          <a:stretch/>
        </p:blipFill>
        <p:spPr>
          <a:xfrm>
            <a:off x="4343400" y="8686800"/>
            <a:ext cx="1981080" cy="65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69920"/>
            <a:ext cx="6858000" cy="272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7160" y="3081240"/>
            <a:ext cx="7316640" cy="1643040"/>
          </a:xfrm>
          <a:prstGeom prst="rect">
            <a:avLst/>
          </a:prstGeom>
          <a:solidFill>
            <a:srgbClr val="d7d9b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7160" y="3470400"/>
            <a:ext cx="724032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Americas 2011 is an 8 day gathering of the GMOD Community featuring a community meeting, satellite meetings, and a GMOD school. If you are looking to exploit (or just get a handle on) your recent or coming datasets, please consider attending one or more events at GMOD Americas 20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is a collection of open source software components for managing, visualizing and annotating biological data.  It is also an active community of biologists and developers addressing common challenges with a shared tool se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59440" y="3048120"/>
            <a:ext cx="30520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GMOD Americas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42900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7160" y="4916520"/>
            <a:ext cx="7316640" cy="1162080"/>
          </a:xfrm>
          <a:prstGeom prst="rect">
            <a:avLst/>
          </a:prstGeom>
          <a:solidFill>
            <a:srgbClr val="adf8fe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35560" y="4876920"/>
            <a:ext cx="249876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ommunity Mee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160" y="525924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full days of presentations &amp; discussion on GMOD components, best practices, and project direction, featuring GMOD users and developers.  New, potential, and veteran users are encouraged to attend.  A special project overview session will be held the night before to introduce new and potential users to the GMOD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1520" y="9578880"/>
            <a:ext cx="3844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gmod.org/wiki/GMOD_Americs_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5259240"/>
            <a:ext cx="71625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160" y="6281640"/>
            <a:ext cx="7316640" cy="804960"/>
          </a:xfrm>
          <a:prstGeom prst="rect">
            <a:avLst/>
          </a:prstGeom>
          <a:solidFill>
            <a:srgbClr val="97de9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87840" y="6242040"/>
            <a:ext cx="21938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atellite Meeting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7160" y="6624720"/>
            <a:ext cx="72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ay of informal special interest group / birds-of-a-feather meetings where GMOD Community members discuss and work on topics of common inte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62472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7278840"/>
            <a:ext cx="7316640" cy="1179360"/>
          </a:xfrm>
          <a:prstGeom prst="rect">
            <a:avLst/>
          </a:prstGeom>
          <a:solidFill>
            <a:srgbClr val="fcfe8b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23920" y="7238880"/>
            <a:ext cx="192132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Spring Train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7160" y="7621560"/>
            <a:ext cx="72403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-day hands on course on GMOD component installation, configuration and usage. The course will cover many popular components, including annot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KER, Apol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visualization tool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Browse, JBrowse, GBrowse_sy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database systems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hado, InterMine, Trip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analysis &amp; data integration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alaxy, GFF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7621560"/>
            <a:ext cx="716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9600" y="8661240"/>
            <a:ext cx="3636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tion to GMOD S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5-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Community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atellite Mee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356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8-12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OD Spring 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20:18:34Z</dcterms:created>
  <dc:creator>GMOD / NESCent</dc:creator>
  <dc:description/>
  <dc:language>en-US</dc:language>
  <cp:lastModifiedBy>GMOD / NESCent</cp:lastModifiedBy>
  <dcterms:modified xsi:type="dcterms:W3CDTF">2010-12-06T20:40:26Z</dcterms:modified>
  <cp:revision>2</cp:revision>
  <dc:subject/>
  <dc:title>PowerPoint Presentation</dc:title>
</cp:coreProperties>
</file>